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CCE-B1DC-4E7A-9B96-E99E619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D9A-5A13-4388-8357-43DF487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46E-7816-4797-ACFA-51044817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042-B5FB-4687-B420-D26DFC4C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5F6-46A0-4ECA-AAF0-78DB37F3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418-50EE-400A-BE18-6A4F2445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788-E28D-4B06-BDCB-9C99EBAA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194-CCF8-4770-8137-01E626E6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903-29A4-4D14-BB42-F012F22D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C89-A810-4FE0-AC41-A17ECF7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685-4536-4361-8DF1-9FBFC88C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40D-BC1B-4052-8DD8-300DB75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E07AB-A05E-46FD-8708-391141DB5A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6D8D4-C8F2-4A46-A9AD-DBB853D46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499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4846680" y="738360"/>
            <a:ext cx="4303800" cy="4881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6181560" y="2838600"/>
            <a:ext cx="1710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99880" y="336600"/>
            <a:ext cx="3470400" cy="2112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142280" y="22035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Picture: Newspix / Rex Featur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extBox 6" descr=""/>
          <p:cNvPicPr/>
          <p:nvPr/>
        </p:nvPicPr>
        <p:blipFill>
          <a:blip r:embed="rId2"/>
          <a:stretch/>
        </p:blipFill>
        <p:spPr>
          <a:xfrm>
            <a:off x="3981600" y="311040"/>
            <a:ext cx="4973400" cy="60231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8" descr=""/>
          <p:cNvPicPr/>
          <p:nvPr/>
        </p:nvPicPr>
        <p:blipFill>
          <a:blip r:embed="rId3"/>
          <a:stretch/>
        </p:blipFill>
        <p:spPr>
          <a:xfrm>
            <a:off x="274680" y="2646360"/>
            <a:ext cx="3522600" cy="366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1797120" y="3989520"/>
            <a:ext cx="587160" cy="4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5"/>
          <a:stretch/>
        </p:blipFill>
        <p:spPr>
          <a:xfrm>
            <a:off x="2712960" y="3989520"/>
            <a:ext cx="587520" cy="47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6"/>
          <a:stretch/>
        </p:blipFill>
        <p:spPr>
          <a:xfrm>
            <a:off x="844560" y="3989520"/>
            <a:ext cx="58752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350040" y="176040"/>
            <a:ext cx="2577960" cy="154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263520" y="176040"/>
          <a:ext cx="5894280" cy="6359760"/>
        </p:xfrm>
        <a:graphic>
          <a:graphicData uri="http://schemas.openxmlformats.org/drawingml/2006/table">
            <a:tbl>
              <a:tblPr/>
              <a:tblGrid>
                <a:gridCol w="1552680"/>
                <a:gridCol w="3378240"/>
                <a:gridCol w="96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5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ear and careful notes were taken.  Evidence present to show that multiple sources were used.  Citations are provided for all articles us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lay depicts one possible explanation for “frog rain” phenomenon.  Attention was given to neatness, creativity, and accuracy.  Citations are included on the display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hort and succinct review is given that combines student thinking with research data.  An explanation of the final conclusion is includ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1-2 minute presentation is given which briefly describes the display and offers the “how” and “why” of the final conclus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" name="TextBox 6" descr=""/>
          <p:cNvPicPr/>
          <p:nvPr/>
        </p:nvPicPr>
        <p:blipFill>
          <a:blip r:embed="rId2"/>
          <a:stretch/>
        </p:blipFill>
        <p:spPr>
          <a:xfrm>
            <a:off x="6327720" y="1974960"/>
            <a:ext cx="2627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7:09:21Z</dcterms:created>
  <dc:creator>Sue Ruff</dc:creator>
  <dc:description/>
  <dc:language>en-US</dc:language>
  <cp:lastModifiedBy>Sue Ruff</cp:lastModifiedBy>
  <dcterms:modified xsi:type="dcterms:W3CDTF">2012-03-05T22:32:57Z</dcterms:modified>
  <cp:revision>2</cp:revision>
  <dc:subject/>
  <dc:title>Slide 1</dc:title>
</cp:coreProperties>
</file>